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B3A-BDD4-4ADC-A858-9B98B2FD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89A-720A-4390-BC37-07300016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31C-5772-419B-A445-B661B32F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75A-81C8-44A4-82F2-C40EE868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6A74-AF50-4F9C-BF4B-472A95EA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9C7E-4D9A-4477-A39E-5F0AACD6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B8A5-BED5-4FC8-AECF-5B4E75DC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6088-2536-43BF-A73E-E906CEB0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FE18-A450-44A7-AEB2-C21D86E1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0EB2-559C-437D-978B-DF51BA19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DB7-9C02-4C55-AC2E-EA0796DF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F74-C07D-40AD-BC12-19E76D26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424D-6338-4DEF-B0B4-42A876AA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1497-0B75-4FB3-AB68-F18A645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1224-50B6-476D-B993-B7E8BBCF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FCFA-FD0E-49E1-AD37-47064501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909D-DB34-4E86-A910-B7D53D77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7B7-06DE-4825-8C9B-D6EC666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222-B085-4EE3-92F4-54FCD3B3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083-81DE-44B1-8C3C-12704D95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721-2FFB-4752-8169-89FBE48C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2B2-87E7-47E4-B332-3AD63AAB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209-F902-4DAC-A5C4-4C69D0D0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F86-9DF7-49A8-B767-54E4C3E5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C3F6-56B2-44F8-8692-223E12F699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7A59-69A0-4DBE-83F4-E212E803E1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Use for Stu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computer to talk to your friends is cool.  Exploring Web sites makes school work more fu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 as there are rules in your classroom, in the Science lab, at home, and for crossing the street safely, there are rules for using computers, programs and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M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support the educational goals and objectives of RRIS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educationally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supervised by adults at all ti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may not type their own or others’ name, address, phone number or other personal information into any place on th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contribute to class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use teacher- designed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ow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acher-selected web pages with staff supervision-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owse mean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P-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 to the matrix with specific guidelines for student use of the Internet found posted in the la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teacher also has a copy and will be carefully monitoring the content produc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with your ITS or Librarian if there ar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nsure all information is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ppropri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evan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i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should get facts, not opinions or propaganda (unless your directions specifically ask for these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achers can assist students in accessing appropriate information from the intern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may also build their own curriculum-related web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th the abundance of new social media tools available to student:                                            wikis and blogs, student products. and documents have the potential to reach an audience far beyond the classroo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should request help in evaluating the credibility of the information and recognizing inappropriate cont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brings new levels of responsibility and accountability for everyo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37160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th Superv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admin</cp:lastModifiedBy>
  <dcterms:modified xsi:type="dcterms:W3CDTF">2008-09-02T01:15:28Z</dcterms:modified>
  <cp:revision>21</cp:revision>
  <dc:subject/>
  <dc:title>Student Internet Use</dc:title>
</cp:coreProperties>
</file>